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4EC3F-D467-42BF-B3AF-ED3774DBA5C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3F104-85A7-4233-A72E-3F416249E75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4FFD5-0D13-4DFC-9771-FA3E2FC63F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40333-1CF8-4C20-9C85-7487B62CC13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409BB-B289-4254-93C8-60A04E7280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8435A-FBD1-4887-BF3B-1D83F2260A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BD06-C55C-4227-9475-E78D3E32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9C06-461A-4A14-BCA6-1CC234EF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93AF-1DEC-46E4-B09F-B14D97BB4E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FF51-2FB2-445F-ADAA-628455E0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A115-0A41-43F5-9C0A-8E993B0B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2C64F-DF62-4D27-A93B-0A9D33B0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48E8-BB99-4CA3-9588-0E509340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F5CA-D540-4278-87D7-30B837AD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289F-5FB1-47A6-AB52-4512DAF8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0507-7F13-4018-8EDA-7758917E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A8BF-4B7E-4ECD-BC1F-B18D5C48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9809E4-8F9C-4A29-A56C-0D1553142EDB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SÍ SE PRODUCE UN TERREMO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sí se produce un terremo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28720" y="1655640"/>
            <a:ext cx="7451640" cy="39229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"/>
          <p:cNvSpPr/>
          <p:nvPr/>
        </p:nvSpPr>
        <p:spPr>
          <a:xfrm>
            <a:off x="971640" y="4464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5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 rot="10740000">
            <a:off x="2016000" y="446508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5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116000" y="907920"/>
            <a:ext cx="23036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producen fuerzas tectónicas debido al desplazamiento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pla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708360" y="765000"/>
            <a:ext cx="23036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acumula tensión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as rocas que se resisten a desplazarse o a romper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191280" y="692280"/>
            <a:ext cx="295272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nalmente, cuando las rocas no soportan más tensión, se rompen o desplazan bruscamente, produciendo un terremot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2843280" y="5589720"/>
            <a:ext cx="2519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ipocentro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el lugar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litosfera donde se origina el terremo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292720" y="5516640"/>
            <a:ext cx="3456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picentro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el lugar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superficie que cae justo sobr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hipocentro, y allí donde el terremoto tiene su máxima intensida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4932360" y="4516200"/>
            <a:ext cx="1332000" cy="1073160"/>
          </a:xfrm>
          <a:prstGeom prst="line">
            <a:avLst/>
          </a:prstGeom>
          <a:ln w="18000">
            <a:solidFill>
              <a:srgbClr val="008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6262560" y="3657600"/>
            <a:ext cx="325440" cy="1859040"/>
          </a:xfrm>
          <a:prstGeom prst="line">
            <a:avLst/>
          </a:prstGeom>
          <a:ln w="18000">
            <a:solidFill>
              <a:srgbClr val="008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16 CuadroTexto"/>
          <p:cNvSpPr/>
          <p:nvPr/>
        </p:nvSpPr>
        <p:spPr>
          <a:xfrm>
            <a:off x="684360" y="981000"/>
            <a:ext cx="35856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17 CuadroTexto"/>
          <p:cNvSpPr/>
          <p:nvPr/>
        </p:nvSpPr>
        <p:spPr>
          <a:xfrm>
            <a:off x="3276720" y="836640"/>
            <a:ext cx="35856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8 CuadroTexto"/>
          <p:cNvSpPr/>
          <p:nvPr/>
        </p:nvSpPr>
        <p:spPr>
          <a:xfrm>
            <a:off x="5796000" y="765000"/>
            <a:ext cx="36036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9 CuadroTexto"/>
          <p:cNvSpPr/>
          <p:nvPr/>
        </p:nvSpPr>
        <p:spPr>
          <a:xfrm>
            <a:off x="8028000" y="3789360"/>
            <a:ext cx="36036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740720" y="4221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terremoto alcanza la superfici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rrest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2T10:07:15Z</dcterms:modified>
  <cp:revision>44</cp:revision>
  <dc:subject/>
  <dc:title>Diapositiva 1</dc:title>
</cp:coreProperties>
</file>